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AE0A-88C3-4FB2-8C60-76A5913CB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6766-E0D0-461C-92B8-846AE058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2B94-37B9-4BDF-B276-95EC16861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ADB6-12A5-45D0-8CA5-16C93B61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F162-6C5C-45E4-A910-75370A4F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C0FF-4AA3-4C72-B848-3764BFE2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44F6-748B-4C32-88B1-337BA885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C6F9-2B59-4192-8BD7-2FD1FFDB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4855-B7BD-4535-B33C-AAE27700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29CC-B36A-44C0-8C1A-A2C60062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6AA9-DC05-44A4-A7B2-4A0D766C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29D6-4184-474D-B1B8-4B01F91C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0E9D-C73B-46C7-8AEE-445441EC6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Resolutsioonimeetod</a:t>
            </a:r>
            <a:br>
              <a:rPr sz="4400"/>
            </a:b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lausearvutus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ks efektiivsemaid meetodeid kehtestatavuse kontrolliks on resolutsioonimeeto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od töötab valemitega, mis o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juktiivsel normaalkuju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raal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ausesümbol on või selle eitu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usel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hk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ardisjunktsioon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hk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junkt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õpliku hulga literaalide disjunktsioo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junktiivne normaalkuju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õpliku hulga klauslite konjunktsio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Konjuktiivset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alkuju võib vaadelda ka lõpliku hulga atomaarsekventsidena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d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konjunktiivset normaalkuj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)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)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õib vaadelda hulga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(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), (q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), (p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), (r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meetodi põhiideeks on tuletada etteantud klauslite hulgast, mis esitavad reegleid ja fakte, uusi klauslei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õige lihtsam versioon kasutab kaht tuletusreegl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reegel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————————————————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ktoriseerimisreegel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kui klauslis on kaks ühesugust literaali, siis võib ühe neist kõrvaldada. Kui faktoriseerimisreegli rakendamisel klauslile C saame uue klausli C’, siis kustutame eelduse C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üüpiliselt rakendatakse meetodit klauslite hulga vastuolulisuse näitamiseks. Kui tahame tõestada valemi F tuletatavust, on see samaväärne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vastuolulisuse tõestamise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oree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Konjunktiivne normaalkuju on vastuoluline parajasti siis, kui temast k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maarsekventside lõplikust hulgast saab tuletada tühja sekventsi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algoritm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gu antud klauslite hulk 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Olgu S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S, n :=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Kui S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aldab tühja klauslit, lõpeta vastusega “vastuoluline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Olgu S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 +1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lga Sn kõigi resolventide hul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Kui S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 +1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S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õpeta vastusega “kehtestatav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Vastasel korral omista n := n + 1 ning pöördu tagasi sammu 2 juur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oree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Korrektsu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klausel D on klauslite hulgast S resolutsioonimeetodiga tuletatav, siis kehtib valem S =&gt; 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oree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Täielikku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muutujateta klauslite hulgal S ei ole ühtegi mudelit, siis on tühi klausel hulgast S resolutsioonimeetodiga tuletatav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3:21:20Z</dcterms:created>
  <dc:creator>Tiina Zingel</dc:creator>
  <dc:description/>
  <dc:language>en-US</dc:language>
  <cp:lastModifiedBy>Tiina Zingel</cp:lastModifiedBy>
  <dcterms:modified xsi:type="dcterms:W3CDTF">2006-03-01T13:30:21Z</dcterms:modified>
  <cp:revision>1</cp:revision>
  <dc:subject/>
  <dc:title>Resolutsioonimeetod lausearvutuses.</dc:title>
</cp:coreProperties>
</file>